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F86-5246-4315-8F2E-A13C7A8E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BE4-F910-4CED-99FF-94707DE6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0BC-B078-47B7-981E-E20BCABF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9E5-9E56-4A0C-BAB6-B1B83349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8AD-C99D-4E11-84A3-697E7870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F6A-2D3F-48A6-B3A4-A37DB61B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CD4-3F3C-4F6D-80D3-F46D8601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EF4-FD6A-4039-91E7-9EBAA75E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EEB-BCEA-4C3A-9441-0DB4195D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C56-7E18-4CB4-9392-C24DCAB7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413-4860-4517-B402-467C58C5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011-6CCC-4C7F-9EF9-06E69EA5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A9F5-74B0-45CF-8E20-A5630F990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6SIME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098360" y="5867280"/>
            <a:ext cx="113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الآن حسب َ قولِكَ تُطلقُ عبدَكَ يا سيدي بسل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13843cCRujYBHua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0"/>
            <a:ext cx="3276720" cy="77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 فقد رأت عينايَ خلاصَك الذي أعدَدته أمام الأم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نوراً لكل الشعوب أُضي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ومجداً لشعبِك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إسرائيل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6SIME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098360" y="5867280"/>
            <a:ext cx="113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الآن حسب َ قولِكَ تُطلقُ عبدَكَ يا سيدي بسل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BRSO022" descr=""/>
          <p:cNvPicPr/>
          <p:nvPr/>
        </p:nvPicPr>
        <p:blipFill>
          <a:blip r:embed="rId1"/>
          <a:stretch/>
        </p:blipFill>
        <p:spPr>
          <a:xfrm>
            <a:off x="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0"/>
            <a:ext cx="3048120" cy="79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المجد للآب الذي أَحبنا ولابنه الذي بموتِهِ خلّص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مجد للروح الساكنِ في قلوبِنا الآن وإلى أبدِ الآبدين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6SIME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098360" y="5867280"/>
            <a:ext cx="113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الآن حسب َ قولِكَ تُطلقُ عبدَكَ يا سيدي بسل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7:11:34Z</dcterms:created>
  <dc:creator>SUZANNE.MD</dc:creator>
  <dc:description/>
  <dc:language>en-US</dc:language>
  <cp:lastModifiedBy>USER</cp:lastModifiedBy>
  <dcterms:modified xsi:type="dcterms:W3CDTF">2003-02-21T03:03:19Z</dcterms:modified>
  <cp:revision>3</cp:revision>
  <dc:subject/>
  <dc:title>PowerPoint Presentation</dc:title>
</cp:coreProperties>
</file>